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135-AFB0-4DD8-A4EC-36FDD2C2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D98-4B6D-4969-A38E-D8FB8AA8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A279-AA5A-4ED1-BA46-6A7100C6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E48F-2E6A-4071-9182-AC3F0436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046-78E3-4D20-925D-6ACF88D3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3A9-D2EB-4120-9ECC-CE00CDC3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76E-5463-4E74-9488-FE3FC5F8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54C-1559-473D-A50C-918F80A6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2A3-6991-4BE5-9922-A4CC3EB7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312-83F8-4159-A651-92FA9308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818-CAAD-463B-9E6B-FEA4AA30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5E3-8F20-4721-93CA-8C325B8E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39ED-CFB8-4B3F-8383-8AE59861A8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产品名称</a:t>
            </a: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0" lang="zh-CN" sz="1600" spc="-1" strike="noStrike">
                <a:solidFill>
                  <a:srgbClr val="ff0000"/>
                </a:solidFill>
                <a:latin typeface="Calibri"/>
              </a:rPr>
              <a:t>报名公司</a:t>
            </a: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417680"/>
            <a:ext cx="822960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样品照片请附在此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2920" y="500040"/>
          <a:ext cx="8929800" cy="5184720"/>
        </p:xfrm>
        <a:graphic>
          <a:graphicData uri="http://schemas.openxmlformats.org/drawingml/2006/table">
            <a:tbl>
              <a:tblPr/>
              <a:tblGrid>
                <a:gridCol w="1260360"/>
                <a:gridCol w="1368360"/>
                <a:gridCol w="1295640"/>
                <a:gridCol w="1225440"/>
                <a:gridCol w="2016000"/>
                <a:gridCol w="1764000"/>
              </a:tblGrid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产品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厂家（产地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型号规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已在应用的广东三甲医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不少于三家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参考价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性能、特点、专利说明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     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~3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3T08:34:00Z</dcterms:created>
  <dc:creator>Administrator</dc:creator>
  <dc:description/>
  <dc:language>en-US</dc:language>
  <cp:lastModifiedBy>许培华</cp:lastModifiedBy>
  <dcterms:modified xsi:type="dcterms:W3CDTF">2020-03-19T03:48:38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00</vt:lpwstr>
  </property>
</Properties>
</file>